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3EF-05E6-47D3-94DC-445C70CD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2A5-8B67-4EB3-B301-097F705D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57A-C25A-4D9E-A36F-FFFCD1E3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224-571C-477B-BE49-0B48DBA7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8C31-0900-4183-853F-FDBD1589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84DE-E676-4738-A7B3-A4E7ABE8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62AA-2221-40BB-8919-06F4CAA0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9F00-802F-446E-8D3C-1DEDC349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146E-67A1-4BB0-A5EA-2E091B5C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86A3-C6B1-47C8-8291-29A234D8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10E6-B34D-47A9-B4CF-F82D090F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EB3-B928-4075-AD07-FCE0038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D4D0-8B43-419A-AA76-30909F9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A981-DECE-433C-97AE-B120DE1E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DC5-E072-4EBE-B84B-8C29FF0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4F90-F1DA-4778-A143-3938DB32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2F84-3F0D-41ED-B7FA-54A6F384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125A-45CF-4CC6-BBBA-28722053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024B-77CB-48D2-9E9A-B2F7BC26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BC76-4AAF-4203-9355-700C5A11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9451-8721-4547-A671-B96BD4C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9FE3-279D-46E8-9655-3A4D52C2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095-D351-4C1A-A2AE-A52CBDA3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4339-A98A-40D6-8EA8-EF2F2F8D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C259-CEFD-495B-8D82-DB6010AC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91197-7A8F-474F-BAB3-B3E9E3C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42B5-576C-4207-9779-2AB35F7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2910-114C-4276-A8BF-F3E514DF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10C6-EAAF-4B10-82B7-22381148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27EC-6A64-4DA6-9C91-27F3BC78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3965-1968-4694-BE4E-0F213905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D0DB-339B-4132-9C8D-4F3E8CF9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F09C-59F5-447E-830D-B47124C2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796-3BC9-468D-AE13-8290B12F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66F29-B01F-4B08-8688-1053012C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70D8-7D60-4EAE-B803-794F5345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8AA4-DE6C-4975-98CE-386D8D1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6D901-8547-4564-A758-FC89493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DAB8-6CE7-4F08-A4C2-19C88E0D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4570-9C16-466C-95AA-5FC27A3B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CE23-C348-415E-A55C-B124FDF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CC80-ABE4-47EB-A7BF-62AEA134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F3F9-C99D-4B9E-80BD-E1277AB3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629B6-C472-4621-B1B6-1AA1946C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594-C3AC-49C1-811A-423FFB07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A982-5036-4BE9-863B-8A2F9BE5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76EE6-0DC5-4F28-BCF3-7E4DC3E2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1677-E79A-4F36-A81C-935EA049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EDF35-9870-482C-9172-AC4FA2BC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B62AE-B3DE-483B-9DD9-F9996DB7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DA2C-32E3-4CDB-964C-C7E0E05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0A34-7398-40B0-983B-05722D6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F5C95-7954-4BF8-AD8D-67C55AC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FD8A5-796C-452C-869D-080BDBFE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5F23E-4AC2-441E-8F61-2604D371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28F-F8DC-43FB-BB8C-183470D3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998ED-76A4-48EC-8802-9BB31D40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4A4-E68F-4208-A5F1-BE275B8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333-1F87-43C3-9F25-3FD37705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16F-C3C8-4949-8BE9-702E6B51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2E3C-37FB-4104-B3AD-1659DC1974C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8E5F-9BB2-45B0-87B4-182E6D0AF5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4353-5B37-4E48-BDD8-59A9C10172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559F-E54E-421E-A325-8B6A0CA08C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D55-E5A5-4230-942B-DDE845C1F9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mofa.gov.gh/site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0" y="15228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Sustainable Intensification of Key Farming Systems in the Sudano-Sahelian Zone of West Afr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. Karbo, F. K. Avornyo, H. K. Dei, B. Alenyorege, E. Osafo, S. Konlan, A. F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SIR-ARI, UDS, IL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CSIR\Local Settings\Temp\Rar$DI00.406\4221308719_7e861369dc.jpg"/>
          <p:cNvPicPr/>
          <p:nvPr/>
        </p:nvPicPr>
        <p:blipFill>
          <a:blip r:embed="rId2"/>
          <a:stretch/>
        </p:blipFill>
        <p:spPr>
          <a:xfrm>
            <a:off x="685800" y="68580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6719132809_d02a581715_b.jpg"/>
          <p:cNvPicPr/>
          <p:nvPr/>
        </p:nvPicPr>
        <p:blipFill>
          <a:blip r:embed="rId3"/>
          <a:stretch/>
        </p:blipFill>
        <p:spPr>
          <a:xfrm>
            <a:off x="7162920" y="380880"/>
            <a:ext cx="971280" cy="1041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University for Development Studies logo - All Ghana Data"/>
          <p:cNvPicPr/>
          <p:nvPr/>
        </p:nvPicPr>
        <p:blipFill>
          <a:blip r:embed="rId4"/>
          <a:stretch/>
        </p:blipFill>
        <p:spPr>
          <a:xfrm>
            <a:off x="5181480" y="457200"/>
            <a:ext cx="1067040" cy="96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www.knust.edu.gh/images/content/pics/img27052010_135229.gif"/>
          <p:cNvPicPr/>
          <p:nvPr/>
        </p:nvPicPr>
        <p:blipFill>
          <a:blip r:embed="rId5"/>
          <a:stretch/>
        </p:blipFill>
        <p:spPr>
          <a:xfrm>
            <a:off x="228600" y="541008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public of Gha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5486400"/>
            <a:ext cx="4114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28600" y="68580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apacity buil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implemen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rovement in understanding of 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nefited from biometry train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ensitization on 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28600" y="106668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stud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28600" y="83808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rmer field visits (75 men and 42 wome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millers’ visit to project s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experience-sharing and learning (120 participan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distributed (3,000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28600" y="609480"/>
            <a:ext cx="86868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armonization gaps of the protocols due to limited  information on socio-cultural sett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ime and area to cove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naging in the absence of a project vehic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pport needed by farmers for technology/innovation upta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ow to sustain the process/interventions – farmers are wondering if we will come bac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8600" y="1219320"/>
            <a:ext cx="8458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m work contributed greatly to the achiev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gional teams required monitoring due to peculiarity of data collection - without which project might have fail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28600" y="762120"/>
            <a:ext cx="85345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lement of long term relationship, commitment and tru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et season intervention is justified particularly for restrained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Land is an issue for intensification  - In UER where crops are failing diversifying into livestock production for integration with crops can improve livelihoo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28600" y="53352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members are more receptive and are organizing themselves into grou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me feed formulations were promising and this provides an opportunity for scaling up – development of feed mark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w partnerships formed present an opportunity for future collaborations (internal and external partn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228600" y="1143000"/>
            <a:ext cx="86868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sence of milk groups presents an opportunity for the development of the dairy sector in northern Ghan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ailability of synthesized knowledge for uptake – proceedings, repor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orking as a consortium for future pro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09480" y="6858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762120"/>
            <a:ext cx="91440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erpetua"/>
              </a:rPr>
              <a:t>ACTIVITIES/OUTPU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Perpetua"/>
              </a:rPr>
              <a:t>Planning meeting and team form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re team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gional teams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mmittee on planning for Regional workshop, training cour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reas for protocol development identifi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228600" y="228600"/>
            <a:ext cx="8686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gional workshop on constraints and opportunities for intensification of integrated crop-livestock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ceed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Technologies tested/gener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st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or guinea fowls (8 feed formulation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ro pigs (9 feed formulations out of which two were promising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C:\Users\DELPHE\Pictures\23-09-2012\DSC00556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52280" y="152280"/>
            <a:ext cx="883944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fa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supplementation under wet season management of small ruminants – 1 promising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rghum spent malt for guinea fowls (cheaper feed formulatio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Best-bet technologies in milk hygiene and process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ppropriate pasteurization equipm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on milk hygiene, milk platform, salt wagashi, good wagashi, quesco blanco cheese and yoghu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SC05820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DELPHE\Pictures\23-09-2012\DSC00570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Figure 1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wagashibrine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2:14:50Z</dcterms:created>
  <dc:creator>Hp</dc:creator>
  <dc:description/>
  <dc:language>en-US</dc:language>
  <cp:lastModifiedBy>LeBorgne, Ewen (ILRI)</cp:lastModifiedBy>
  <dcterms:modified xsi:type="dcterms:W3CDTF">2012-10-24T12:28:10Z</dcterms:modified>
  <cp:revision>118</cp:revision>
  <dc:subject/>
  <dc:title>Slide 1</dc:title>
</cp:coreProperties>
</file>